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B739-EF1D-4496-BC86-45D0F47B2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115F-8BA5-4362-8347-BEA9699C5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DA4F-C08C-4783-B233-2F223A4A8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8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0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55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8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0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A861-87BB-4B88-A3B6-8E28F6312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384F-8898-4247-9107-E25D8C6BBA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510D-7411-4C0A-92AE-D617CF1B42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8E01-BB45-42A6-B486-2FCCF64D48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079C-9CDB-49B6-88A3-6C89FC08D3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2EAE-BC0A-45C0-833C-405D8F30CE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BFBC-E19C-4DA5-B62C-FADE6E1082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1E37-395C-4BFF-AF98-ED022134D5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F0F5-D464-4D9C-BB30-433F93C2B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58AA-A70E-41D3-AD1B-7D9F21C5AD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2763-E226-429C-B96B-47C716FCC1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4165-6F65-4B2F-AB87-00C4F853E1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4417-A4C8-4489-A7F2-2F64AEF8F5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816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0680" y="836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2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816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0680" y="3770640"/>
            <a:ext cx="257364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487B-60F8-449E-9140-FF97C1CF7E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359B-8C6D-4ADF-B2DB-94F540D21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D49E-B8A6-44A4-A9F7-1EAD9D60C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1309-3FEC-49AE-A565-F0A720E30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4000" y="260280"/>
            <a:ext cx="8064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3878-8E97-4D16-95E1-158D172DD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61AB-5FE5-41CE-BE12-79B2B4594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1360" y="3770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677A-E6A2-49F8-8DDF-F0C9B9DBC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243360"/>
            <a:ext cx="8064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1360" y="836640"/>
            <a:ext cx="390060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280" y="3770640"/>
            <a:ext cx="7993080" cy="267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AA64-C643-4D93-800D-751011B34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2647160" y="9751680"/>
            <a:ext cx="381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CC6D-C25C-42FA-B559-EF91081D4FE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404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E49-1873-4EC8-862C-E0332E2B6691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87280" y="3789000"/>
            <a:ext cx="7499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720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008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296000" indent="-14400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2996-B98C-431A-996D-F95916FE774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492280"/>
            <a:ext cx="7559640" cy="10749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omputer Graphic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10429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42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장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그래픽 컬러처리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전자기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주파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파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가시광선의 파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390nm – 720n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5761080" cy="29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0FFF-9518-4482-88A7-38A1EABF69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GB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가산모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빛의 합성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모니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+G = Y, G+B = C, B+R =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G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의 보색은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M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5286240" cy="43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AE2B-43FC-4F76-9FC0-96A8E1B9C2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MY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감산모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물감의 합성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프린터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W - G(Complement of Magenta) = R + B = Mage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W - G) - R(Complement of Cyan) = B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W - G - R) - B(Complement of Yellow) = Black            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7480440" cy="23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0F22-E1B9-425E-B8BC-059C36A755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MY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G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는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M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의 합성으로 표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+M+Y = Black     cf. R+G+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물감의 삼원색은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MY.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빨강노랑파랑이 아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2200" y="2895480"/>
            <a:ext cx="4249800" cy="3273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608360" y="3090960"/>
            <a:ext cx="4427640" cy="31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92A9-02AD-4B81-BA79-D3480403BF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MYK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 for Chromatic 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회색농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 = 120, M = 80, Y = 2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 = 40, M = 0, Y = 120, K = 8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장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잉크 건조시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잉크 비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정밀한 회색농도를 표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완벽한 보색차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BFB6-4322-42E1-AD53-ED0EED6B5D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SV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RGB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델의 단점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직관적이지 않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라색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R, G, B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각각 얼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HSV(Hue, Saturation, Valu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또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HSB(Hue, Saturation, Brightnes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Hue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채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Saturation)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명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Value, Brightnes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화가의 직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셰이드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어떤 색상에 흑색을 섞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채도와 명도를 동시에 낮춤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틴트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어떤 색상에 백색을 섞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채도는 낮추고 명도는 높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484360" y="4292640"/>
            <a:ext cx="4392720" cy="143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E4D3-59A5-4486-9666-5AE8BF39C9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SV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육각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92360" y="836640"/>
            <a:ext cx="5229360" cy="5638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3371760" cy="19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B06C-6A4B-465D-9D66-3D2650F884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SV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대화상자 예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적색 단면 예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960720" cy="3929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788000" y="1916280"/>
            <a:ext cx="3865320" cy="37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56BF-FAB4-45FB-B243-DFB9B57CA6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SV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의 변형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원뿔형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HS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상을 둥글게 배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H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명도 범위를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배로 확장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4360" y="2644920"/>
            <a:ext cx="3598560" cy="3495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871880" y="2708280"/>
            <a:ext cx="3589560" cy="37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D713-8CB9-4CE2-A750-25FD6899E1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색상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명도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채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상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우세주파수의 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명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파형 아래의 면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채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Ed – 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채도 증가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Ed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증가 또는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w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감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w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감소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명도 저하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상 인식이 어려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63640" y="3213000"/>
            <a:ext cx="4897440" cy="27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3DA1-395F-4247-A866-64D1E0845D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눈의 구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홍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빛의 양을 조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수정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초점거리 조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막대세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명암인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어두운 환경에 반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원추세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색상인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밝은 환경에 반응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11280" y="3335400"/>
            <a:ext cx="3744720" cy="2827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4427640" y="3240000"/>
            <a:ext cx="4249800" cy="307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0CC4-9BDA-43CB-AE13-3F7999190D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Verdana"/>
              </a:rPr>
              <a:t>컬러 매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80 nm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황색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적색 광원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0.25) +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녹색광원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0.13) +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청색광원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0.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00nm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근처에서 적색광원은 음의 값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, 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를 합성한 색상에서 적색 성분을 빼야 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현실적으로 불가능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384360" cy="260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92720" cy="28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5DC7-A355-42C6-B6E0-B0E3FF437C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IE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 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ommission Inernationale d'Eclairag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상의 삼원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수학적으로 유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모두 양의 함수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명도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X, 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 색을 결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63910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4F6F-87A4-4222-B597-0F961AD1DA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IE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정규화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+Y+Z = 1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이 되도록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, y, 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를 결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x, y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가 결정되면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는 자동으로 결정됨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x, y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의 함수로서 색을 표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CIE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색 범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순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단일 파장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)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경계선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내부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순색의 혼합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보색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예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. A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와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616248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84360" y="2565360"/>
            <a:ext cx="4154400" cy="398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580000" y="3213000"/>
            <a:ext cx="262116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196E-F03B-4E85-AECD-EB017ED1D0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색 범위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olor Gamut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527640" cy="374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45120" y="1971720"/>
            <a:ext cx="4790880" cy="42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A1E7-91A8-4A3F-824C-52CE263C6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색 온도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Color Temperatur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가열된 물체의 온도에 의한 색 표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458040" cy="1257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19600" y="2637000"/>
            <a:ext cx="3449520" cy="381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381636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99F6-3CC3-4787-AFDD-AB828DDA30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4255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0f3d3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GB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컬러모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79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삼중 자극이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ri-Stimulus Theor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원추세포는 파장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30nm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빨강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530 nm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녹색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450nm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청색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에 가장 민감하게 반응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292480"/>
            <a:ext cx="4608360" cy="332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80000" y="2997360"/>
            <a:ext cx="2273400" cy="23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9928-9886-435B-96B9-6363A4886C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d</cp:lastModifiedBy>
  <dcterms:modified xsi:type="dcterms:W3CDTF">2005-09-20T02:51:19Z</dcterms:modified>
  <cp:revision>284</cp:revision>
  <dc:subject/>
  <dc:title>PowerPoint 프레젠테이션</dc:title>
</cp:coreProperties>
</file>